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A35-B93F-43EB-AE85-A238B5C1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E1D-8CCB-49B1-BBD8-C2A27A5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E5B-4E18-41B9-AEB8-2FF50B24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9B2-4DB9-45CE-9F93-7B2BB9CC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21C-ED0D-440C-921C-6B34906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55A-4AE7-45F5-AAF8-0C922C8C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190-45C4-404A-B474-ED16D1C5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302-E1CB-4708-9AA7-74D52C23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472-B2FC-4FC1-90DE-83C66E3D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F39-66B4-4A24-9E13-1BDA6A9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682-0F46-4A9D-9059-37E83A9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810-E1AF-4534-957D-3579A40F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DA9-758C-4770-9FEC-22A7E8E3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Picture 6" descr="girl_taking_test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4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5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5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rparmigiani</cp:lastModifiedBy>
  <dcterms:modified xsi:type="dcterms:W3CDTF">2011-07-26T14:51:38Z</dcterms:modified>
  <cp:revision>6</cp:revision>
  <dc:subject/>
  <dc:title>Wheel of Fortune</dc:title>
</cp:coreProperties>
</file>